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72CCA-174B-41A5-BCF0-5B9569AE6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797CE-6822-474E-84C5-20DC93547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7B6B2-A4F1-445B-8359-1B8C09468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89FD2-66E9-4C29-92A7-9F29124F2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8976D-206E-465B-993A-E372CC923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E9C28-2EAE-45C8-B666-CD086094E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ED353-F1A4-4DB8-8F4F-325F58364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40AD9-FB8E-40DB-BB07-A02085893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18E8D-7463-4A7B-B345-191F40BF1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F6741-5FFE-40DE-B04C-77837BE4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2D11C-FDF2-459D-88C9-F679A6BF7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D2A7-AC07-463C-9A5B-6BED96F2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47DB-90E1-416F-9643-C03DC37D5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C5659-7040-4B19-83A2-3FB8255EB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39D73-7CEF-43E1-B298-23CD39FE0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33FB9-A89B-4981-A860-E9A2A5D417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D27C2-147F-4549-A2EF-E478A9114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5D42ED-9395-4D33-9ABD-E68D75D4AA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2515F-E44D-461B-8C9B-2BEFCD151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D53AA-C985-4B7C-B497-BAE147371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54EC9-C22A-46BF-8F4E-3D1BF2CEE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83CFF-C9F3-4666-8F5A-5A00DA6A2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31455-A052-4675-9175-8654D8DDF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42AD1-9A4B-484E-B028-D8B72C7FD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25A02-85FF-4657-91CA-59ABE2423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3F759-678D-449F-9F4C-D31E3E50B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EFF6B-BA3D-4AF6-BACA-2E3166D92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7B598-6F24-47A7-B7BC-844DB5729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85DDC5-C8FB-4278-8685-E84791BC0E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9C32F0-A89C-4CB6-A56C-BD002D8614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C18E4C-B652-4BDE-83F6-2145FB298D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811274-7792-4C5C-A63A-FF4783214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4322C-A54A-4541-9853-1D0C4F237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43C34-28BE-4A2A-998C-EBBA32F3F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7F49C-213B-4581-BCB9-E948313A3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B79277-B3CC-417A-8CDF-BEC3D92CA2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A3C5D-1315-40DA-89B3-7BA5D333F2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B48C5-5460-47C9-B71A-02D82010A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761E9-0F25-419E-AB6B-9E8154615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BB8C2-FD4E-4BCC-93BB-9E3928B0D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3CD59-2AF4-4014-B5F5-1C925C628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3F652-7E39-4231-9309-83B66447EB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CE7DC7-470F-4381-85C2-9B1F8D998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901779-C583-491F-9062-6298369347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F84C1-1036-466C-8743-5DFF4EB5F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ADF560-35E0-4EEA-8AF8-B74EE0227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7A116-0C37-4157-95A9-B29B0A866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CFB8EA-3851-4259-A122-FBD7E40D4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EEC0BD-DE62-4038-A20D-6283DB3F11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60B7FA-AB7D-4B22-BFC3-59F255D98F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45085C-6FBF-4833-BDD3-B9ADFB4FA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0793F-75F2-455C-8571-F9C954B6C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16FF9-1CCE-4AE3-9E2D-ACA64031D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A2F8F-CF64-404A-ABC2-240883363D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EB9157-4E09-44A9-85D5-F78BA695A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4E007-A371-43AB-85F3-FB40F5D5F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15ABD9-F913-449F-B14D-6FD511936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AC4B0B-811A-4B38-A97F-F9B30074B9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79102A-382A-48CA-8438-765E3A59FA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9BF147-C759-4F7E-B180-E42E94E6E5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B5102-CF45-4BEB-B713-F2A9767B0D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CAD30-05EC-46B0-956E-77D43E1E5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149A19-4A4C-46F2-AC86-3F077DB6B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56301-5F3F-454F-829C-E0C3212361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EDFF6-EB75-470D-8607-6EE25BFFE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D472D-F2A0-4368-84EF-E58D0808B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1461-1BAB-4152-91B0-3BD23F63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FF25C-C65E-4C55-B260-2F58B091F0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9BCE6D-1DF2-47BB-A529-0A66DAF652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406011-67B8-4F71-AB43-980E7F5183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621ADD-6EFB-4C67-A90C-5DD83383B9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C11666-9C8F-4844-B819-C25CCE098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76462B-E4B4-4114-9BF3-283F0F3912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70561B-4F95-46B7-A7FF-215599A693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1D63C-245B-4524-8D4D-CCB6983A1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082DF2-37A7-4CB1-9F36-61E54D7CB4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5CF97-A187-4B98-80DA-3DD0DAD6E5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BE030-C986-4113-95B8-CA410423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3A4FC-03CC-4619-906B-29A53546A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A6D15-510E-42B3-A7E1-11A52FEDF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215DE6-1189-4713-9B67-EEE30CF1B9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6852CA-BFB0-4DE1-A5B5-A93FBBAAC8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EC5FDE-D2D3-4E61-8337-8536C43035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CA57EE-C83E-4E34-B0F5-9FF285B2B0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6DFF06-506E-4BD1-AF7B-D987202FE3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AA6BF-BBC8-44DC-A23B-E226E3424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71DF9A-7AE8-4416-94BD-4B6C98DF97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ABE109-7BAC-4332-BA3B-40E28352A4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3F760-8600-4AD0-B054-54B6E188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FC0A50-F672-4C41-82E8-D36F77531D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1414CA-513D-4F18-9219-740EF2BE94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A48D2-C778-4172-86CF-BBB8544845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2FFD9-8C3D-45BA-8887-0AD75A85A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A5838B-940D-4819-A69D-7A00028769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C5B271-2EF1-456A-8055-7B72235EEC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0A1E99-BCCA-417B-BAA9-043E087572F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8184-EC7A-4BF0-8BB3-C4A3FCBD009B}"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FE58-02FE-4EB2-AC24-CF804C84D271}"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BCB2-B098-4160-83D5-CD1782FC551F}"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3096-EFA6-48F4-95C6-6FBC0FB7D693}"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AB8C-A9CF-4B9A-A5C7-28A2E0EFC1B7}"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7672-4414-4884-9425-66F902D8FE08}"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7A01-2906-4CC5-BE43-50A16CC1841D}"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Bookman Old Style"/>
              </a:rPr>
              <a:t>Click to edit the title text format</a:t>
            </a:r>
            <a:endParaRPr b="0" lang="en-US" sz="3200" spc="-1" strike="noStrike">
              <a:solidFill>
                <a:srgbClr val="7f7f7f"/>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5c5c5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4980-E075-4600-9CD4-69B135573FF3}" type="slidenum">
              <a:rPr b="0" lang="en-US" sz="1400" spc="-1" strike="noStrike">
                <a:solidFill>
                  <a:srgbClr val="7f7f7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3000" y="2514600"/>
            <a:ext cx="7772400" cy="19749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Rangers Apprentice:</a:t>
            </a:r>
            <a:br>
              <a:rPr sz="3200"/>
            </a:br>
            <a:r>
              <a:rPr b="0" lang="en-US" sz="3200" spc="-1" strike="noStrike">
                <a:solidFill>
                  <a:srgbClr val="ffffff"/>
                </a:solidFill>
                <a:latin typeface="Bookman Old Style"/>
              </a:rPr>
              <a:t>The Lost Stories</a:t>
            </a:r>
            <a:endParaRPr b="0" lang="en-US" sz="3200" spc="-1" strike="noStrike">
              <a:solidFill>
                <a:srgbClr val="7f7f7f"/>
              </a:solidFill>
              <a:latin typeface="Bookman Old Style"/>
            </a:endParaRPr>
          </a:p>
        </p:txBody>
      </p:sp>
      <p:sp>
        <p:nvSpPr>
          <p:cNvPr id="353" name="PlaceHolder 2"/>
          <p:cNvSpPr>
            <a:spLocks noGrp="1"/>
          </p:cNvSpPr>
          <p:nvPr>
            <p:ph type="subTitle"/>
          </p:nvPr>
        </p:nvSpPr>
        <p:spPr>
          <a:xfrm>
            <a:off x="1143000" y="4038120"/>
            <a:ext cx="6400800" cy="175284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By John Flanagan</a:t>
            </a:r>
            <a:endParaRPr b="0" lang="en-US" sz="2000" spc="-1" strike="noStrike">
              <a:solidFill>
                <a:srgbClr val="ffffff"/>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Presentation by Zach Hafner</a:t>
            </a:r>
            <a:endParaRPr b="0" lang="en-US" sz="20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Genre</a:t>
            </a:r>
            <a:endParaRPr b="0" lang="en-US" sz="3200" spc="-1" strike="noStrike">
              <a:solidFill>
                <a:srgbClr val="7f7f7f"/>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e Genre of this book is a very serious fantasy of all </a:t>
            </a:r>
            <a:r>
              <a:rPr b="0" lang="en-US" sz="3200" spc="-1" strike="noStrike">
                <a:solidFill>
                  <a:srgbClr val="ffffff"/>
                </a:solidFill>
                <a:latin typeface="Gill Sans MT"/>
              </a:rPr>
              <a:t>10</a:t>
            </a:r>
            <a:r>
              <a:rPr b="0" lang="en-US" sz="2600" spc="-1" strike="noStrike">
                <a:solidFill>
                  <a:srgbClr val="ffffff"/>
                </a:solidFill>
                <a:latin typeface="Gill Sans MT"/>
              </a:rPr>
              <a:t> books and fills in gaps were the author left out what happened to the certain characters</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Summary</a:t>
            </a:r>
            <a:endParaRPr b="0" lang="en-US" sz="3200" spc="-1" strike="noStrike">
              <a:solidFill>
                <a:srgbClr val="7f7f7f"/>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s book tells what happens to Will’s mother.  It tells what Gilan does while Halt goes after Will after he is captured by the Skaindians in book 2.  It tells secrets that are very surprising. It tells who was Halt’s mentor and how he became a ranger.</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Pictures</a:t>
            </a:r>
            <a:endParaRPr b="0" lang="en-US" sz="3200" spc="-1" strike="noStrike">
              <a:solidFill>
                <a:srgbClr val="7f7f7f"/>
              </a:solidFill>
              <a:latin typeface="Bookman Old Style"/>
            </a:endParaRPr>
          </a:p>
        </p:txBody>
      </p:sp>
      <p:pic>
        <p:nvPicPr>
          <p:cNvPr id="359" name="Content Placeholder 3" descr="WILL AND EBONY.jpg"/>
          <p:cNvPicPr/>
          <p:nvPr/>
        </p:nvPicPr>
        <p:blipFill>
          <a:blip r:embed="rId1"/>
          <a:stretch/>
        </p:blipFill>
        <p:spPr>
          <a:xfrm>
            <a:off x="380880" y="2209680"/>
            <a:ext cx="5303880" cy="3978360"/>
          </a:xfrm>
          <a:prstGeom prst="rect">
            <a:avLst/>
          </a:prstGeom>
          <a:ln w="0">
            <a:noFill/>
          </a:ln>
        </p:spPr>
      </p:pic>
      <p:pic>
        <p:nvPicPr>
          <p:cNvPr id="360" name="Picture 4" descr="THE LOST STORIES.jpg"/>
          <p:cNvPicPr/>
          <p:nvPr/>
        </p:nvPicPr>
        <p:blipFill>
          <a:blip r:embed="rId2"/>
          <a:stretch/>
        </p:blipFill>
        <p:spPr>
          <a:xfrm>
            <a:off x="5943600" y="2209680"/>
            <a:ext cx="2743200" cy="379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Recommendation</a:t>
            </a:r>
            <a:endParaRPr b="0" lang="en-US" sz="3200" spc="-1" strike="noStrike">
              <a:solidFill>
                <a:srgbClr val="7f7f7f"/>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I would recommend this book to my Uncle Chance. He always loves action books.</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Bookman Old Style"/>
              </a:rPr>
              <a:t>Bonus</a:t>
            </a:r>
            <a:endParaRPr b="0" lang="en-US" sz="3200" spc="-1" strike="noStrike">
              <a:solidFill>
                <a:srgbClr val="7f7f7f"/>
              </a:solidFill>
              <a:latin typeface="Bookman Old Style"/>
            </a:endParaRPr>
          </a:p>
        </p:txBody>
      </p:sp>
      <p:sp>
        <p:nvSpPr>
          <p:cNvPr id="364" name=""/>
          <p:cNvSpPr txBox="1"/>
          <p:nvPr/>
        </p:nvSpPr>
        <p:spPr>
          <a:xfrm>
            <a:off x="304920" y="114300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Gill Sans MT"/>
              </a:rPr>
              <a:t>If I could ask the Will any questions I would ask how he must of felt when Tug was crippled and had to be retired because he limped due to a wolf attack on his leg and how did he feel about</a:t>
            </a:r>
            <a:endParaRPr b="0" lang="en-US" sz="26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21:13:48Z</dcterms:created>
  <dc:creator>Chris Hafner</dc:creator>
  <dc:description/>
  <dc:language>en-US</dc:language>
  <cp:lastModifiedBy>Owner</cp:lastModifiedBy>
  <dcterms:modified xsi:type="dcterms:W3CDTF">2012-05-06T21:40:00Z</dcterms:modified>
  <cp:revision>5</cp:revision>
  <dc:subject/>
  <dc:title>Rangers Apprentice: The Lost Stories</dc:title>
</cp:coreProperties>
</file>